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E64-B42F-4CEB-868D-906B945B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35B9-F295-48B7-8A4A-8BE145BA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BE5-33DA-4FA8-B2FB-BCD04D2A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557-1F6D-466D-AED2-11E05A77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A6EE-FF7B-4D1D-BE0B-0C4CD652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B679-7CA8-4AEE-87BD-6C0F836A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F480-B3CC-408F-BB63-0171E9A4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2859-30F0-4AA8-A2E3-51383B89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E353-2A54-42EF-9F3B-B5210BBB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9A9F-5BFF-4DBB-8BDF-3874EBDB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15FD-217B-4CC1-9DC4-AB25C67D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531-D25F-4FE9-AD98-6D42A210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68A5-A195-4457-B850-DB06ABD3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B9FE-ED06-42C9-96D9-2FAAC9B6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4B76-8560-48C7-B59D-C1603A9B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B813-6D25-4E13-9E3D-5513CA37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5A3D-4C05-4303-B5F5-631DE725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9470-9FB2-401F-8FDA-58A597E8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D17-25C0-49B0-AC0E-0A6266FB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A5F-335C-423E-AE33-1792DE6B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B46-5067-4F50-A9C3-7D08A234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3AC-2478-4CF1-A711-B994DDDA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C8D-5485-4C8A-9003-C3941B5C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2A4-9307-48C5-9D90-92C16117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4CC3-7055-48A8-83D9-9A83107CD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A787-8766-4289-BE6C-4A7BD39F7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ff00"/>
                </a:solidFill>
                <a:latin typeface="Times New Roman"/>
              </a:rPr>
              <a:t>Тақырып 3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133720"/>
            <a:ext cx="8540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ff"/>
                </a:solidFill>
                <a:latin typeface="Times New Roman"/>
              </a:rPr>
              <a:t>Өлшем құралдарының қателіктер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Іст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лдану кезінде 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 у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т өте келе сыр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 ортаның әсеріне (температура, ылғалдылық, атмосфералық қысым, механикалық әсер)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шырайды. Осыдан өлшем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 үші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ндай жағдайлар қалыпты, ал қандайлары қалыпты емес болып санал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тын мәселелер туындауы мүмкін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Осы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мәселелерді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түсіндіретін бірнеше ан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амаларды келтір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уге болады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Әсер етуші шама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– берілген 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ымен өлшенбейтін, бір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өлшем нәтижелеріне әсер ететін физикалың шама.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Қалыпты өлшеу жа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</a:rPr>
              <a:t>ғ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айлар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– өлшеу нәтижелерінің өзгеруі аздығы себебінен еленбейтін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ер етуші шамалар м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інің жиынтығымен сипатталатын жағдайлар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Қалыпты өлшеу жағдайлары н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ы типтегі 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ының нормативтік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аттарында немесе салыстырып тексеру (калибрлеу) кезінде орнатылады. Мысалы,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ршаған ортаның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лыпты температурасы 20 ± 2°С, ауаның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лыпты ылғалдылығы 60 ± 5% және т.б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Ж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мысшы өлшеу жағдайлары</a:t>
            </a:r>
            <a:r>
              <a:rPr b="0" i="1" lang="kk-KZ" sz="3600" spc="-1" strike="noStrike">
                <a:solidFill>
                  <a:srgbClr val="ffffff"/>
                </a:solidFill>
                <a:latin typeface="Times New Roman"/>
              </a:rPr>
              <a:t> –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әсер етуші шамалардың мәні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ыс аясы шегінде орналасатын жағдайлар және олар үші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сымша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к немесе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 көрсеткіштерінің өзгерісі нормаланатын жағдайлар. Мысалы,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ршаған орта температурасының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ыс аясы - 60°С-тан + 60°С-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 дейін, желідегі кернеудің өзгерісі 180 В-тан 230 В-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 дейін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91628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 жек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сиеттерінің өте идеалды болмауына байланысты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к, яғни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лыпты жағдайдағы өлшеу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 шынайы түрлену функ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ясының номиналды түрлену фунңциясынан айырмашылығын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айланысты. Б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ушы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егізгі 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ателігі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деп аталады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260280"/>
            <a:ext cx="8785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Қолдану шарттарына қатысты және өлшенетін шаманың өзгеруі бойынша қателіктер түрлер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ыр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 әсер ету шамаларының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лыпты мәндерг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ысты кіруші белгілердің 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аратт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емес параметрлерінің өзгеруіне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ың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еріне байланысты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ктер. Б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ушы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ө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сиеттеріне де, әсер етуші шамалардың өзгерісіне де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елді болады және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қосымша 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ателігі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деп аталады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іруші белгілердің өзгеру жылдамдығ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(жиілігіне),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ың әсеріне байланысты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ктер. Б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 өлшемнің динамик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 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гін ан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айты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ушы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ың динамик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 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сиеттеріне де, кіруші белгінің жиілік спектрін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е тәуелді болады, ол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динамикалық 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ателігі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еп аталады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 оның кірісі мен шығысына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сылған объектілердің әсеріне байланысты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ктер.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 өлшем объектісін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су көп жағдайларда өлшенетін физик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шама мәнінің өл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 объектіг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с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нға дейінгі мәнінен өзгеруіне алып келеді және оны ан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ау өлшеудің м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аты болып табылады. Б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ушы өлшеу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 қасиеттері мен өлшеу объектілеріне тәуелді болады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егізгі 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ателік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– 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лыпты жағдайларда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 пайдаланумен байланысты, сондай-ақ өлшеу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 берілген н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сының түрлену функциясының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 осы типіне тән түрленудің номиналды функциясына сәйкес келуімен байланысты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к. Жалпы жағдайда ол у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 тәуелді болуы мүмкін жүйелі және кездейсо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қателіктерден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ды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78544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Негізгі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ателік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градуирлеудің, калибрлеудің дәл болмауынан, ал техника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өзгерістер кезінде 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ы тобының түрлену функциясының әр қилылығымен, сондай-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жүйелі және кездейсо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 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теліктердің туындауына алып келетін өзге де себептермен байланысты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324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Times New Roman"/>
              </a:rPr>
              <a:t>Мақсаты: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Студенттерді өлшем құралдарының қателіктерімен таныстыру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276640"/>
            <a:ext cx="295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Times New Roman"/>
              </a:rPr>
              <a:t>Жоспар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3068640"/>
            <a:ext cx="8756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1. Өзгеру сипаты және өрнектелу тәсілі бойынша қателіктер түрлер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2. Қолдану шарттарына қатысты және өлшенетін шаманың өзгеруі бойынша қателіктер түрлер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78544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гізгі қателіктермен салыстырғанда қосымша қателік 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ын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ыс жағдайларында қолдану кезінде пайда болады. Б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телік, сонымен бірге,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ү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елі және кездеисоқ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теліктердің сомасы түрінде де көрсетілуі мүмкін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78544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сымша қателіктердің көзі өлшем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ының кіру белгілерінің ақпаратт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емес белгілеріне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 олардың өзгерісіне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ері болуы мүмкін. Өйткені кіру белгісінде өлшенетін физика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шама мен өлшеу объектісі болып табылмайтын физика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шама өзгерісі туралы 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арат болуы мүмкін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78544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ысалы, одан өтетін шама иондағыш сәулеленуді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туға негізделген зат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мын өлшеу аспабында зат ар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ылы өткен сәулелену тасқынының шамасы осы заттың қ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мына ғана емес (а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аратт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параметр), сондай-ақ зат үлгісінің қалыңдығына (ақпараттық емес параметр) байланысты болады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Қателіктер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деп өлшемдер нәтижелерінің өлшенетін бірліктің нақты мәнінен ауытқуын айтады.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Өлшем құралдарының қателігі өлшемдердің жалпы қателігінің бір бөлігі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Өлшем 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ралының 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ателігі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өлшенетін физик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шаманың шынайы шамасы ме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ұрал көрсеткішінің арасынд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ғ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 айырм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Times New Roman"/>
              </a:rPr>
              <a:t>Өзгеру сипаты және өрнектелу тәсілі бойынша қателіктер түрлері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ктің өзгеру сипаты бойынша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ың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жүйелі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кездейсо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ктерін ажыратуға бола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Өл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ш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ем 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ралының ж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ү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йелі 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ателігі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ы ретінде алынатын немесе заңды түрде бар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мдас бөлігі.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ы жүйелі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ктің болу себептері: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 калибрленуінің немесе градуирленуінің д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 болмауы;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емператураның және ж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ысшы кернеудің әсері және т.б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1680" y="1125000"/>
            <a:ext cx="8540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т өте келе өзгеретін жүйелі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ктің себептері: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лдану жағдайларының өзгеруі (температура, ылғалды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, атмосфера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 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сым, механикалың әсер), түрлі кедергілер мен бас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 да факторла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48808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 жеке үлгісінің жүйелі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гі, әдетте, осы типтегі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 бас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 н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ларының жүйелі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гімен сәйкес келмейді. Сонд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ан бір типтегі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дарының тобы белгілі бір орташа жүйелі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кпен сипатталады және осы типтегі ө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 үшін кездейсо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шама ретінде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растырылуы мүмкін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48808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ездейсо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қ қ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ателік</a:t>
            </a:r>
            <a:r>
              <a:rPr b="0" i="1" lang="ru-RU" sz="3600" spc="-1" strike="noStrike">
                <a:solidFill>
                  <a:srgbClr val="b7e7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кездейсо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түрде өзгеретін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ө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шем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лының жалпы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ктерінің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мдас бөлігі.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ктің болу себептері: электронды шуылдар, байланыс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ылғыларындағы контактты кедергілердің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ызд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ғ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, аспаптардың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зғалмалы бөлік тіректеріндегі үйкеліс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ығы және т.б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алыстырмалы </a:t>
            </a:r>
            <a:r>
              <a:rPr b="1" lang="kk-KZ" sz="4000" spc="-1" strike="noStrike">
                <a:solidFill>
                  <a:srgbClr val="ffff00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ателік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дарының абсолютті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телігінің өлшеу нәтижелеріне немесе физикалы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шаманың шынайы мәніне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тынасымен сипатталатын өлшем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лының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телігі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әжірибеде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абсолютті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ателік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аспап көрсеткіштеріне жа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ызылуы мүмкін және оны пайызбен көрсетуге болады. Егер салыстырмалы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телік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ормаланатын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мәнге (өлшемнің барлы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диапазонында т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ы) жатқызылса, онда ол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елтірілген қателік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деп аталады. Нормалайтын мән ретінде, әдетте өлшемнің жоғарғы шегін алады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10:16:47Z</dcterms:created>
  <dc:creator>Мади</dc:creator>
  <dc:description/>
  <dc:language>en-US</dc:language>
  <cp:lastModifiedBy>User</cp:lastModifiedBy>
  <dcterms:modified xsi:type="dcterms:W3CDTF">2012-05-28T10:05:46Z</dcterms:modified>
  <cp:revision>8</cp:revision>
  <dc:subject/>
  <dc:title>Таќырыбы:</dc:title>
</cp:coreProperties>
</file>